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2.gif" ContentType="image/gif"/>
  <Override PartName="/ppt/media/image8.wmf" ContentType="image/x-wmf"/>
  <Override PartName="/ppt/media/image12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1391-1FE7-46BE-9916-7C9C7E223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139920" y="23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42E-AD89-47E5-A1DA-FAD49129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D18-1C70-4F98-B0C9-343CD702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0B7-626B-4A50-8301-E75AF269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B31-B5FE-42A7-9C87-625508C7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5F6-02D8-4286-90AF-5338E8C3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DBE-C4A8-4A36-8067-415A4B7A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1B2-54B8-43B5-83E0-EA1C834F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175-7094-4CD0-9739-41161B6F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382-E201-491A-A1D5-9DAF37EB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72C-98E3-4049-81FD-B54392CE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E22-7B1B-402F-8F9D-16345698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627-AFCD-4CA3-9F58-59084441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1F51-502B-490D-BCA8-CFA15090D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dubon.org/bird/cbc/index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rdsource.org/gbbc/kids/gbbc-is-for-kid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bird.org/content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irds.cornell.edu/pfw/" TargetMode="External"/><Relationship Id="rId2" Type="http://schemas.openxmlformats.org/officeDocument/2006/relationships/hyperlink" Target="http://www.birds.cornell.edu/pfw/" TargetMode="Externa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earner.org/jnorth/" TargetMode="External"/><Relationship Id="rId2" Type="http://schemas.openxmlformats.org/officeDocument/2006/relationships/hyperlink" Target="http://www.learner.org/jnorth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wrc.usgs.gov/bbl/" TargetMode="External"/><Relationship Id="rId2" Type="http://schemas.openxmlformats.org/officeDocument/2006/relationships/hyperlink" Target="http://www.pwrc.usgs.gov/bbl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lobe.gov/fsl/welcome.html" TargetMode="External"/><Relationship Id="rId2" Type="http://schemas.openxmlformats.org/officeDocument/2006/relationships/hyperlink" Target="http://www.globe.gov/fsl/welcome.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lobe.gov/GaN/" TargetMode="External"/><Relationship Id="rId2" Type="http://schemas.openxmlformats.org/officeDocument/2006/relationships/hyperlink" Target="http://www.globe.gov/GaN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pswichriver.org/howtohelp/volunteer.htm" TargetMode="External"/><Relationship Id="rId2" Type="http://schemas.openxmlformats.org/officeDocument/2006/relationships/hyperlink" Target="http://www.ipswichriver.org/howtohelp/volunteer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arthwatch.org/site/pp.asp?c=dsJSK6PFJnH&amp;b=393397" TargetMode="External"/><Relationship Id="rId2" Type="http://schemas.openxmlformats.org/officeDocument/2006/relationships/hyperlink" Target="http://www.earthwatch.org/site/pp.asp?c=dsJSK6PFJnH&amp;b=393397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rds.cornell.edu/LabPrograms/CitSci/" TargetMode="External"/><Relationship Id="rId2" Type="http://schemas.openxmlformats.org/officeDocument/2006/relationships/hyperlink" Target="http://www.birds.cornell.edu/LabPrograms/CitSci/" TargetMode="Externa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oadkill.edutel.com/rkabout.html" TargetMode="External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bztv.com/awsweather" TargetMode="External"/><Relationship Id="rId2" Type="http://schemas.openxmlformats.org/officeDocument/2006/relationships/hyperlink" Target="http://wbztv.com/awsweather" TargetMode="External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hale.wheelock.edu/Welcome.html" TargetMode="External"/><Relationship Id="rId2" Type="http://schemas.openxmlformats.org/officeDocument/2006/relationships/hyperlink" Target="http://whale.wheelock.edu/Welcome.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tizensci.com/" TargetMode="External"/><Relationship Id="rId2" Type="http://schemas.openxmlformats.org/officeDocument/2006/relationships/hyperlink" Target="http://www.citizensci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s_&amp;_Beyond/index.php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ssaudubon.org/birdatlas/bba2/index.ph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Citize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future of Citizen Science project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458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30520" y="2895480"/>
            <a:ext cx="2081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reat Backyard Bird Coun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Kid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Bi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3406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Project FeederWatc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2666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Journey North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00400" y="312408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ird Banding Laboratory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The Globe Program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ebpage"/>
          <p:cNvSpPr/>
          <p:nvPr/>
        </p:nvSpPr>
        <p:spPr>
          <a:xfrm>
            <a:off x="3276720" y="2971800"/>
            <a:ext cx="2819160" cy="3048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Globe At Nigh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76720" y="2590920"/>
            <a:ext cx="269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Ipswich River Watershed Association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3124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Citizen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0000"/>
                </a:solidFill>
                <a:latin typeface="Comic Sans MS"/>
              </a:rPr>
              <a:t>Citizen Scienc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a partnership between the public and professional scientist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EarthWatch Institute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124080" y="297180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ornell Lab of Ornithology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130560" y="2819520"/>
            <a:ext cx="2884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RoadK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65760" y="3048120"/>
            <a:ext cx="2752920" cy="33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08200" y="3124080"/>
            <a:ext cx="2796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eather Bug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WBZ-TV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716120" cy="1743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76520" y="34290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hale Net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rld Water Monitoring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2793960"/>
            <a:ext cx="56390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Cams &amp; Satellite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gle &amp; Loon 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ellite Tracking Endangered Animals and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Ruby-throated humming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bird migration ra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cking collare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yes on Wildlife – Authentic Wildlife Research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cience process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ser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cri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ord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e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ulat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 use CS projects in the class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tend &amp; enrich exist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gration with other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rdisciplinar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dependen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itizen Science &amp;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Life long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eep the passion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Your own person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rsonal experiences with CS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istmas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 Breeding Bird Atl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ssroom Feeder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eat Backyard Bird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WA River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rth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view/discussion of Citizen Science project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1"/>
              </a:rPr>
              <a:t>Citizen Science Projects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A weblog of current happenings with CS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ss Audubo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rds &amp;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A Breeding Bird Atla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8:06:15Z</dcterms:created>
  <dc:creator>dwilliams</dc:creator>
  <dc:description/>
  <dc:language>en-US</dc:language>
  <cp:lastModifiedBy>dwilliams</cp:lastModifiedBy>
  <dcterms:modified xsi:type="dcterms:W3CDTF">2007-04-02T17:38:00Z</dcterms:modified>
  <cp:revision>38</cp:revision>
  <dc:subject/>
  <dc:title>Citizen Science</dc:title>
</cp:coreProperties>
</file>