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8.wmf" ContentType="image/x-wmf"/>
  <Override PartName="/ppt/media/image12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423-238D-4B20-AE3D-DDEA1E42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13992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43F-778D-406C-BCD5-8E83FC8E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32D-94BE-4E65-88F4-06ABEAF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B18-8861-492F-8B2C-DDE272F7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9E7-DAAA-4F0E-A4CF-396CF27A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CC5-4FD0-4D34-B9BE-581EB4F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CC2-18D6-42C2-A7A0-852DEC7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CC3-B86A-45E3-B480-E07E1D98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A2F-A020-4398-9B56-6D88F57B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B58-F9F1-425F-A6DB-237CE14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BBB-7249-4B98-A9C5-9F972BD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3BE-EED0-44B2-AC72-5EE55F0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ED8-5922-4D9D-970E-13CF3B3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D7C9-83D8-4C7F-9323-7B29FBBB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dubon.org/bird/cbc/index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kids/gbbc-is-for-kid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bird.org/conte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rds.cornell.edu/pfw/" TargetMode="External"/><Relationship Id="rId2" Type="http://schemas.openxmlformats.org/officeDocument/2006/relationships/hyperlink" Target="http://www.birds.cornell.edu/pfw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jnorth/" TargetMode="External"/><Relationship Id="rId2" Type="http://schemas.openxmlformats.org/officeDocument/2006/relationships/hyperlink" Target="http://www.learner.org/jnorth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wrc.usgs.gov/bbl/" TargetMode="External"/><Relationship Id="rId2" Type="http://schemas.openxmlformats.org/officeDocument/2006/relationships/hyperlink" Target="http://www.pwrc.usgs.gov/bb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lobe.gov/fsl/welcome.html" TargetMode="External"/><Relationship Id="rId2" Type="http://schemas.openxmlformats.org/officeDocument/2006/relationships/hyperlink" Target="http://www.globe.gov/fsl/welcome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e.gov/GaN/" TargetMode="External"/><Relationship Id="rId2" Type="http://schemas.openxmlformats.org/officeDocument/2006/relationships/hyperlink" Target="http://www.globe.gov/G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pswichriver.org/howtohelp/volunteer.htm" TargetMode="External"/><Relationship Id="rId2" Type="http://schemas.openxmlformats.org/officeDocument/2006/relationships/hyperlink" Target="http://www.ipswichriver.org/howtohelp/volunteer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arthwatch.org/site/pp.asp?c=dsJSK6PFJnH&amp;b=393397" TargetMode="External"/><Relationship Id="rId2" Type="http://schemas.openxmlformats.org/officeDocument/2006/relationships/hyperlink" Target="http://www.earthwatch.org/site/pp.asp?c=dsJSK6PFJnH&amp;b=393397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rds.cornell.edu/LabPrograms/CitSci/" TargetMode="External"/><Relationship Id="rId2" Type="http://schemas.openxmlformats.org/officeDocument/2006/relationships/hyperlink" Target="http://www.birds.cornell.edu/LabPrograms/CitSci/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oadkill.edutel.com/rkabout.html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bztv.com/awsweather" TargetMode="External"/><Relationship Id="rId2" Type="http://schemas.openxmlformats.org/officeDocument/2006/relationships/hyperlink" Target="http://wbztv.com/awsweather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hale.wheelock.edu/Welcome.html" TargetMode="External"/><Relationship Id="rId2" Type="http://schemas.openxmlformats.org/officeDocument/2006/relationships/hyperlink" Target="http://whale.wheelock.edu/Welcome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izensci.com/" TargetMode="External"/><Relationship Id="rId2" Type="http://schemas.openxmlformats.org/officeDocument/2006/relationships/hyperlink" Target="http://www.citizensci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s_&amp;_Beyond/index.ph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atlas/bba2/index.ph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Citize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uture of Citizen Science projec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45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30520" y="2895480"/>
            <a:ext cx="208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Ki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Bi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40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roject FeederWatc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Journey Nort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ird Banding Laboratory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 Globe Program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ebpage"/>
          <p:cNvSpPr/>
          <p:nvPr/>
        </p:nvSpPr>
        <p:spPr>
          <a:xfrm>
            <a:off x="3276720" y="2971800"/>
            <a:ext cx="2819160" cy="3048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lobe At Nigh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76720" y="2590920"/>
            <a:ext cx="26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Ipswich River Watershed Association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124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0000"/>
                </a:solidFill>
                <a:latin typeface="Comic Sans MS"/>
              </a:rPr>
              <a:t>Citizen Scienc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a partnership between the public and professional scientist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arthWatch Institute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ornell Lab of Ornithology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0560" y="2819520"/>
            <a:ext cx="2884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Road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65760" y="3048120"/>
            <a:ext cx="2752920" cy="33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8200" y="3124080"/>
            <a:ext cx="279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eather Bug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WBZ-T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1612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hale Ne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ld Water Monitoring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793960"/>
            <a:ext cx="5639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Cams &amp; 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gle &amp; Loo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ellite Tracking Endangered Animals and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Ruby-throated humm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bird migration 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colla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yes on Wildlife – Authentic Wildlife Researc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cience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r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tend &amp; enrich exist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gration with other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disciplin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tizen Science &amp;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ife long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eep the passion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our own pers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 Breeding Bird Atl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room Feeder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WA River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rth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Citizen Science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A weblog of current happening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ss Audub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rds &amp;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 Breeding Bird Atla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06:15Z</dcterms:created>
  <dc:creator>dwilliams</dc:creator>
  <dc:description/>
  <dc:language>en-US</dc:language>
  <cp:lastModifiedBy>dwilliams</cp:lastModifiedBy>
  <dcterms:modified xsi:type="dcterms:W3CDTF">2007-04-02T17:38:00Z</dcterms:modified>
  <cp:revision>38</cp:revision>
  <dc:subject/>
  <dc:title>Citizen Science</dc:title>
</cp:coreProperties>
</file>