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2.gif" ContentType="image/gif"/>
  <Override PartName="/ppt/media/image8.wmf" ContentType="image/x-wmf"/>
  <Override PartName="/ppt/media/image12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F805-A42A-4D07-B00F-8C377A7FC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13992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4A9-7573-4174-9833-222811F0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338-33C1-45AB-8C8D-868F5645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28F-06AA-4726-9AC8-AA8BE6D4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B18-D316-4A5C-BBF3-B24DF873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3B7-12A6-4D09-8FBF-083FCAC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6AF-B997-4F22-BBF7-A6428198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162-5F08-40B7-B9BA-2DE2719C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734-013A-475A-9A3C-B8B2815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583-9DB1-4013-98DD-9C6CD909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2D6-2203-45F9-BE2E-79F0FF1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7DD-FC79-44DA-844C-049E83C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F91-4D5B-4F94-831C-78F27C81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EC0E-B40A-473C-9A1D-09265E3C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dubon.org/bird/cbc/index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kids/gbbc-is-for-kid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bird.org/content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irds.cornell.edu/pfw/" TargetMode="External"/><Relationship Id="rId2" Type="http://schemas.openxmlformats.org/officeDocument/2006/relationships/hyperlink" Target="http://www.birds.cornell.edu/pfw/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earner.org/jnorth/" TargetMode="External"/><Relationship Id="rId2" Type="http://schemas.openxmlformats.org/officeDocument/2006/relationships/hyperlink" Target="http://www.learner.org/jnorth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wrc.usgs.gov/bbl/" TargetMode="External"/><Relationship Id="rId2" Type="http://schemas.openxmlformats.org/officeDocument/2006/relationships/hyperlink" Target="http://www.pwrc.usgs.gov/bbl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lobe.gov/fsl/welcome.html" TargetMode="External"/><Relationship Id="rId2" Type="http://schemas.openxmlformats.org/officeDocument/2006/relationships/hyperlink" Target="http://www.globe.gov/fsl/welcome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lobe.gov/GaN/" TargetMode="External"/><Relationship Id="rId2" Type="http://schemas.openxmlformats.org/officeDocument/2006/relationships/hyperlink" Target="http://www.globe.gov/GaN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pswichriver.org/howtohelp/volunteer.htm" TargetMode="External"/><Relationship Id="rId2" Type="http://schemas.openxmlformats.org/officeDocument/2006/relationships/hyperlink" Target="http://www.ipswichriver.org/howtohelp/volunteer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arthwatch.org/site/pp.asp?c=dsJSK6PFJnH&amp;b=393397" TargetMode="External"/><Relationship Id="rId2" Type="http://schemas.openxmlformats.org/officeDocument/2006/relationships/hyperlink" Target="http://www.earthwatch.org/site/pp.asp?c=dsJSK6PFJnH&amp;b=393397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rds.cornell.edu/LabPrograms/CitSci/" TargetMode="External"/><Relationship Id="rId2" Type="http://schemas.openxmlformats.org/officeDocument/2006/relationships/hyperlink" Target="http://www.birds.cornell.edu/LabPrograms/CitSci/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oadkill.edutel.com/rkabout.html" TargetMode="External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bztv.com/awsweather" TargetMode="External"/><Relationship Id="rId2" Type="http://schemas.openxmlformats.org/officeDocument/2006/relationships/hyperlink" Target="http://wbztv.com/awsweather" TargetMode="External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hale.wheelock.edu/Welcome.html" TargetMode="External"/><Relationship Id="rId2" Type="http://schemas.openxmlformats.org/officeDocument/2006/relationships/hyperlink" Target="http://whale.wheelock.edu/Welcome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tizensci.com/" TargetMode="External"/><Relationship Id="rId2" Type="http://schemas.openxmlformats.org/officeDocument/2006/relationships/hyperlink" Target="http://www.citizensci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s_&amp;_Beyond/index.php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atlas/bba2/index.ph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Citize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uture of Citizen Science project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458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30520" y="2895480"/>
            <a:ext cx="2081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Kid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Bi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3406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roject FeederWatc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2666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Journey Nort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00400" y="312408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ird Banding Laboratory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The Globe Program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ebpage"/>
          <p:cNvSpPr/>
          <p:nvPr/>
        </p:nvSpPr>
        <p:spPr>
          <a:xfrm>
            <a:off x="3276720" y="2971800"/>
            <a:ext cx="2819160" cy="3048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lobe At Nigh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76720" y="2590920"/>
            <a:ext cx="269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Ipswich River Watershed Association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3124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0000"/>
                </a:solidFill>
                <a:latin typeface="Comic Sans MS"/>
              </a:rPr>
              <a:t>Citizen Scienc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a partnership between the public and professional scientist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arthWatch Institute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24080" y="297180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ornell Lab of Ornithology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130560" y="2819520"/>
            <a:ext cx="2884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RoadK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65760" y="3048120"/>
            <a:ext cx="2752920" cy="33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08200" y="3124080"/>
            <a:ext cx="2796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eather Bug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WBZ-TV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716120" cy="174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76520" y="34290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hale Ne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ld Water Monitoring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793960"/>
            <a:ext cx="5639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Cams &amp; Satellite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gle &amp; Loon 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ellite Tracking Endangered Animals and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Ruby-throated humm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bird migration ra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collare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yes on Wildlife – Authentic Wildlife Research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cience process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cri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rd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ula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tend &amp; enrich exist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gration with other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disciplinar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dependen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itizen Science &amp;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Life long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eep the passion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our own person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 Breeding Bird Atl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ssroom Feeder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WA River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rth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1"/>
              </a:rPr>
              <a:t>Citizen Science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A weblog of current happening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ss Audub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rds &amp;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 Breeding Bird Atla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8:06:15Z</dcterms:created>
  <dc:creator>dwilliams</dc:creator>
  <dc:description/>
  <dc:language>en-US</dc:language>
  <cp:lastModifiedBy>dwilliams</cp:lastModifiedBy>
  <dcterms:modified xsi:type="dcterms:W3CDTF">2007-04-02T17:38:00Z</dcterms:modified>
  <cp:revision>38</cp:revision>
  <dc:subject/>
  <dc:title>Citizen Science</dc:title>
</cp:coreProperties>
</file>